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CF9-1283-4A4E-BD3F-B493C5AA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25B2-4BEC-4BC9-8B4F-5F2C48FF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E986-1B00-4A33-AE4B-450C55E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52F3-E8B3-4DA2-AB38-3FDA367E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9FC4-20AD-4A6F-97B8-37F83077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0B3B-997A-480F-9268-820DC82A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C88F-05AB-4A26-A293-1B629DAB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920-AE20-4B30-ADCC-F2EB66A6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3B37-C437-4204-AAA0-5D03804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FF9-876F-458A-8F3C-E989CC6B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A622-2ED9-430F-BBD7-8649DF6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FA8E-8FC0-489E-894E-FB1219D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188D-860E-4D57-8A85-A0E1F08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DD3C-7FA9-47D9-A846-522176F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164-18C9-401F-8A9E-73FA677B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424E-E523-46CD-81D4-5B8517BF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D954-2668-46CD-8091-CE56D2AF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31D3-5EC9-431D-B143-74BFBDA8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9027-EE59-40F2-9C78-56D2C6A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7270-14B7-4E6D-968D-A71FA6DC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8501-AB21-480F-881D-E446204B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40A2-6760-4179-95F3-BFDF8CD3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1EEB-4A6E-4378-BB39-F050E8F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2685-6C2A-4893-81B3-C64B9535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A268-59C8-41D8-8A67-E48D5E92E5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8685-4BD8-4C8F-A2BA-1EA16BF56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E4668aarck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process which atoms of one or more substances rearrange to for a different sub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for a chemical reaction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temperature (exo/en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earance of 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of these alone proves that such a change occurs because some physical changes involve one or more of these sig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1066680"/>
            <a:ext cx="7696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the equation that represents breaking down carbonic acid into water and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315200" cy="7984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965600" y="3749760"/>
            <a:ext cx="48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a balanced equ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838080"/>
            <a:ext cx="7315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the equation for the formation of sodium carbonate and water from the reaction between sodium hydroxide and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217000" cy="647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80880" y="3505320"/>
            <a:ext cx="815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, as written, does not truly represent the reaction because it does not show conservation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990720"/>
            <a:ext cx="761976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more than one unit taking part or being formed in a reaction, a number call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efficie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laced in front of it to indicate how many units are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821664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2  10-1,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2  #5,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3  #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21932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Types of Chemical 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06128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0880" y="990720"/>
            <a:ext cx="8001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ever two or more substances combine to form a single product, the reaction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ynthesis reactio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78818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1392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838080"/>
            <a:ext cx="81532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composition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compound breaks down into two or more simpler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581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222920" y="0"/>
            <a:ext cx="6064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609480"/>
            <a:ext cx="9144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ngle-displacement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ne element takes the place of another in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828800"/>
            <a:ext cx="944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can replace the first part of a compound, or it can replace the last part of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848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 Single Replacement Rx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 replaces Hydr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(s) + 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(l)         2LiOH(aq) 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l replaces 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      2Ag(s)+Cu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metal replace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g) + 2NaBr(aq)         2NaF(aq) + B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36576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62520" y="54864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056320" y="152280"/>
            <a:ext cx="5142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990720"/>
            <a:ext cx="8001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tance that undergoes a reaction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a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2209680"/>
            <a:ext cx="76960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eactants undergo a chemical change, each new substance formed is called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duc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396252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mplest reactions involve a single reactant or a single product, but some reactions involve many reactants and many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4251240" cy="66294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05280" y="30492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ity Ser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-2880" y="121932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you know if a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happ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2880" y="2336760"/>
            <a:ext cx="35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active will replace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213920" y="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33520"/>
            <a:ext cx="91440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e-displacement reac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positive ions of two ionic compounds are inter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4920" y="167652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double-displacement reaction to take place,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least one of the products must be a precipitate (formation of a solid) or wa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07732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213920" y="228600"/>
            <a:ext cx="6663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Major Classes of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7200" y="990720"/>
            <a:ext cx="83818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bustion re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one in which a substance rapidly combines with oxygen to form one or more ox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866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80880" y="272880"/>
            <a:ext cx="83059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762120"/>
            <a:ext cx="7848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iron rusts, iron metal and oxygen gas combine to form one new substance, iron(III) 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76920" cy="5428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457200" y="312408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um nitrate is heated to a high temperature, it explosively breaks down into dinitrogen monoxide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762120" y="4724280"/>
            <a:ext cx="75819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8600" y="76212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 iron nail is placed into an aqueous solution of copper(II) sulfate, copper metal forms on the n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950240" cy="60156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04920" y="3124080"/>
            <a:ext cx="8381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queous solutions of lead(II) nitrate and potassium iodine are mixed, a reaction takes place and a yellow solid appears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8128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Class of Chemical Reaction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3520" y="914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welding is done with an acetylene torch, acetylene combines with oxygen to form carbon dioxide and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" y="24382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eaction is exothermic, and enough energy is released to melt me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44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5 #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6  #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9  #10-2,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1   #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5 #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6 #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89  #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1  #25,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445040" y="228600"/>
            <a:ext cx="655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ord 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91440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mplest way to represent a reaction is by using words to describe all the reactants and products, with an arrow placed between them to represent chan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2819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tants are placed to the left of the arrow, and products are placed to the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38098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s signs are used to separate reactants and also to separat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89917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eous Solu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homogeneous mixture which contains one or more substances called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u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solved in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lv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queous Solu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ne in which the solvent is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Aqueous Solu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olutes (i.e. table sugar/sucrose) are molecular compounds that exist as molecules in aqueous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olutes are molecular compounds which form ions in aqueous solu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e.  HCl(g)      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 compounds may also be solutes in aqueous solutions in which case the ions sepa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e. NaOH(aq)       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queous solutions that contain ions are mixed, the ions may react in a double-replacement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2895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4267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4320" y="304920"/>
            <a:ext cx="76910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Times New Roman"/>
              </a:rPr>
              <a:t>Reactions in Aqueous Solu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990720"/>
            <a:ext cx="8001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xample of a double-replacement reaction that produces a precipitate occurs when aqueous solutions of sodium chloride and silver nitrate are mixed to form a precipitate of solid silver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8239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38080" y="228600"/>
            <a:ext cx="7326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Times New Roman"/>
              </a:rPr>
              <a:t>Reactions in Aqueous 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" y="762120"/>
            <a:ext cx="8001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all of the particles in solution as they really exist,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ete ionic equ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be writt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2895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dium and nitrate ions are on both sides of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3886200"/>
            <a:ext cx="80010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ions that do not participate in a reaction are call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tator 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19080" y="0"/>
            <a:ext cx="6995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actions in Aqueous Solu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762120"/>
            <a:ext cx="754380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onic equation that does not show spectator ions but only the particles that participate in a reaction is called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t ionic equ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2743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case of the previous reaction, the net ionic equation from which the sodium and nitrate ions have been removed is as fol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4008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830240" y="228600"/>
            <a:ext cx="4930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Writing Ionic Equ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838080"/>
            <a:ext cx="8382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chemical equation for the reaction between aqueous solutions of strontium nitrate and potassium sulfate, which forms the precipitate strontium sulf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520" y="36576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efficients to produce the balanced chemical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429680" cy="4363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7915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77960" y="0"/>
            <a:ext cx="4930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Writing Ionic Equ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609480"/>
            <a:ext cx="685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the complete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53640" cy="973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57200" y="236232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out the spectator ions, which are those that are on both sides of the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038480"/>
            <a:ext cx="815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leaves the net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229600" cy="35244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660384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600200" y="6793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93240" y="152280"/>
            <a:ext cx="6960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Times New Roman"/>
              </a:rPr>
              <a:t>Reactions that form Water or  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990720"/>
            <a:ext cx="76201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ouble-replacement reactions in aqueous solution produce water or a gas (or both) rather than a precipi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3520" y="25653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uch cases, the water or gas is shown as a product in the net ionic equation, as are the ions that produce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3520" y="39369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maining ions are eliminated as spectator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Reactions that form Water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33520" y="106668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ydrochloric acid and potassium hydroxide solutions are mixed, water results, together with an aqueous solution of potassium chlor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3520" y="304812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lanced chemical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788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Reactions that form Wa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33520" y="9907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lete ionic equation, which includes all of the 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2666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the spectator ions to produce the net ionic eq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380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99436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Equ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equations can be converted into chemical equations by substituting chemical formulas for the names of compounds and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" y="2895480"/>
            <a:ext cx="762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quation for the reaction of vinegar and baking soda can be written using the chemical formulas of the reactants and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7391520" cy="5331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609480" y="5562720"/>
            <a:ext cx="807732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ctions that form a G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chloric acid and aqueous sodium cyanide, with production of hydrogen cyanide gas (HC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4360" y="4408560"/>
            <a:ext cx="755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7194600" cy="4712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77120" cy="36216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5702400" cy="57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657600" y="22860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3429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on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57240" y="4572000"/>
            <a:ext cx="17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 ion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4 #10-3,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6 # 10-4,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299 #10-5, 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" y="121932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4 # 34, 3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6 # 39, 4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g 299  # 4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 you should kn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304-306  #65, 71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307  #1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827360" y="0"/>
            <a:ext cx="5016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83808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y also be important to know the physical state of each reactant and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1828800"/>
            <a:ext cx="8229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s in the parentheses are put after formulas to indicate the state of the sub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297180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ds, liquids, gases, and water (aqueous) solutions are indicated by the symbols (s), (l), (g), and (aq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3059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86800" cy="6098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6868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457200" y="228600"/>
            <a:ext cx="7932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Energy and Chemic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99072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iceable amounts of energy are often released (exothermic) or absorbed (endothermic) during a chemical reactio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880" y="2133720"/>
            <a:ext cx="81536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riting a chemical equation for a reaction that produces energy, the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ometimes written along with the products. For a reaction that absorbs energy, the wor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sometimes written along with the reactants in the chemical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162920" cy="6667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8255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069560" y="0"/>
            <a:ext cx="6869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Balancing Chemical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762120"/>
            <a:ext cx="8610480" cy="25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the products is always the same as the mass of the reactants that react to form th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Conservation of Mas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neither created nor destroyed during a chemical rea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429000"/>
            <a:ext cx="89154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atoms don’t change in a chemical reaction; they just rearrange. The number and kinds of atoms present in the reactants of a chemical reaction are the same as those present in the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Law of Conservation of A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Balancing Chemical Equations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hemical equation to accurately represent a reaction, the same number of each kind of atom must be on the left side (reactants) of the arrow as are on the right side (produc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n equation follows the law of conservation of atoms, it is said to be a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lanced equat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21:14:15Z</dcterms:created>
  <dc:creator>dangelo</dc:creator>
  <dc:description/>
  <dc:language>en-US</dc:language>
  <cp:lastModifiedBy>dangelo</cp:lastModifiedBy>
  <cp:lastPrinted>2007-11-25T19:18:39Z</cp:lastPrinted>
  <dcterms:modified xsi:type="dcterms:W3CDTF">2010-10-25T18:09:42Z</dcterms:modified>
  <cp:revision>74</cp:revision>
  <dc:subject/>
  <dc:title>Chemistry</dc:title>
</cp:coreProperties>
</file>